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gif" ContentType="image/gif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9534-C8D4-41C9-950B-FEDCF4DA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082-7758-4A40-A855-EB0E41D1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1A9-9271-4992-BF4E-FB4FF3BF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6B7-E53F-4609-8BFC-D47D540E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AC0-FE18-46C8-A7EA-CD34C84B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72E-C4CC-4042-8213-2EFF0234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188-655D-428F-BC99-5FE23211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E50-51AF-4189-999E-CDE0D1FC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EF39-1F2B-4368-B425-819317C6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B770-5E2E-4817-AB32-2CF5C246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F77-3A82-4E46-B88B-E060F6E2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220-E4FC-4000-B1C1-6BDDDBCD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3F2C-75D9-453B-A6B2-4C001AC6D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elcome to Algebra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33920" y="4952520"/>
            <a:ext cx="5410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ost exciting part of m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261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2577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248000"/>
            <a:ext cx="3657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hematically, solve how many cookies we would have if we had the following number of tray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t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t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t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t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t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each pattern in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 14, 21, 28, 35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, 6, 7, 8, 9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, 22, 33, 44, 55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57200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ould be the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ber in each patt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ould be the 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ber in each patt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ebra is often feared but needlessly s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sk a simple question like, if I had three bananas and someone gave me some more, and then I had seven, HOW MANY BANANAS DID THEY GIVE M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724280" y="5334120"/>
                <a:ext cx="37465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" name=""/>
          <p:cNvGrpSpPr/>
          <p:nvPr/>
        </p:nvGrpSpPr>
        <p:grpSpPr>
          <a:xfrm>
            <a:off x="4038480" y="1828800"/>
            <a:ext cx="5105520" cy="3330720"/>
            <a:chOff x="4038480" y="1828800"/>
            <a:chExt cx="5105520" cy="3330720"/>
          </a:xfrm>
        </p:grpSpPr>
        <p:grpSp>
          <p:nvGrpSpPr>
            <p:cNvPr id="50" name=""/>
            <p:cNvGrpSpPr/>
            <p:nvPr/>
          </p:nvGrpSpPr>
          <p:grpSpPr>
            <a:xfrm>
              <a:off x="4038480" y="1828800"/>
              <a:ext cx="3352680" cy="892440"/>
              <a:chOff x="4038480" y="1828800"/>
              <a:chExt cx="3352680" cy="892440"/>
            </a:xfrm>
          </p:grpSpPr>
          <p:pic>
            <p:nvPicPr>
              <p:cNvPr id="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05160" y="1828800"/>
                <a:ext cx="1219320" cy="89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38480" y="1828800"/>
                <a:ext cx="1219320" cy="89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72200" y="1828800"/>
                <a:ext cx="1218960" cy="892440"/>
              </a:xfrm>
              <a:prstGeom prst="rect">
                <a:avLst/>
              </a:prstGeom>
              <a:ln w="0">
                <a:noFill/>
              </a:ln>
            </p:spPr>
          </p:pic>
        </p:grp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7162920" y="1981440"/>
                  <a:ext cx="198108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4343400" y="3124440"/>
              <a:ext cx="121932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5334120" y="3124440"/>
              <a:ext cx="121896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6553080" y="4267440"/>
              <a:ext cx="121932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7"/>
            <a:stretch/>
          </p:blipFill>
          <p:spPr>
            <a:xfrm>
              <a:off x="6248520" y="3200400"/>
              <a:ext cx="121896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8"/>
            <a:stretch/>
          </p:blipFill>
          <p:spPr>
            <a:xfrm>
              <a:off x="7315200" y="3200400"/>
              <a:ext cx="121932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9"/>
            <a:stretch/>
          </p:blipFill>
          <p:spPr>
            <a:xfrm>
              <a:off x="4648320" y="4191120"/>
              <a:ext cx="121896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0"/>
            <a:stretch/>
          </p:blipFill>
          <p:spPr>
            <a:xfrm>
              <a:off x="5638680" y="4191120"/>
              <a:ext cx="121932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156960" y="5486400"/>
            <a:ext cx="428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one could do thi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ALGEBR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Course the Answer is FOU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how did you REALLY get thi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362320"/>
            <a:ext cx="740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took the total you had after they gave you some , and then subtracted the number you had to start with, and got four.  They must have given you fou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200400" y="4419720"/>
                <a:ext cx="287640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ebra really describes 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91520" cy="226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6680" y="38098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shows a pattern.  Algebra can be used to describ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562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ould the next three pictures in the pattern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Can put this data into a Tab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828720"/>
          <a:ext cx="8229600" cy="602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ram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locks on one sid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lock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be what you do to find the next number in the patter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just take the first number and square it to get the number of bl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write this mathema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657600" y="3429000"/>
                <a:ext cx="236232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ould be the 3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number in the patter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25146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09480" y="2666880"/>
                <a:ext cx="8229600" cy="27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9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30480" cy="388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228600" y="4648320"/>
          <a:ext cx="8534520" cy="1114200"/>
        </p:xfrm>
        <a:graphic>
          <a:graphicData uri="http://schemas.openxmlformats.org/drawingml/2006/table">
            <a:tbl>
              <a:tblPr/>
              <a:tblGrid>
                <a:gridCol w="3454560"/>
                <a:gridCol w="1015920"/>
                <a:gridCol w="1015920"/>
                <a:gridCol w="1016280"/>
                <a:gridCol w="101592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Tray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Cooki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3429000" y="1371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and Complete the Tabl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you do to find out the next number in the patter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1960" y="2590920"/>
            <a:ext cx="65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Trays X 15 cookies on each tr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114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ally we would write this as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t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5 x tr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2:54:38Z</dcterms:created>
  <dc:creator>admin</dc:creator>
  <dc:description/>
  <dc:language>en-US</dc:language>
  <cp:lastModifiedBy>admin</cp:lastModifiedBy>
  <dcterms:modified xsi:type="dcterms:W3CDTF">2008-02-05T11:05:01Z</dcterms:modified>
  <cp:revision>8</cp:revision>
  <dc:subject/>
  <dc:title>Welcome to Algebra!</dc:title>
</cp:coreProperties>
</file>